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376929"/>
        <c:axId val="43999834"/>
      </c:barChart>
      <c:catAx>
        <c:axId val="783769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99834"/>
        <c:crosses val="autoZero"/>
        <c:auto val="1"/>
        <c:lblAlgn val="ctr"/>
        <c:lblOffset val="100"/>
        <c:noMultiLvlLbl val="0"/>
      </c:catAx>
      <c:valAx>
        <c:axId val="439998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3769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21CA-C825-4FC7-BC23-4B5911AAB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B864-89C0-48B7-B324-C5C990D8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FC86-E162-4A96-8AF1-C5C23D722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A5CA-85CF-4BE1-94BC-094B83275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13B1-29D7-4F07-81EB-947EBD61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2132-D3E2-45B7-BB88-18766A50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A48B-06A7-43FA-B677-581D81B5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EB17-E140-4511-8D7F-63E3918C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5F9E-6E77-401C-A409-0DD626E6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31A6-F2CD-44EF-8BD0-2F93CD33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1B0F-907E-49A8-BB2C-D81D5112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8BDD-B6D0-4A0A-AC28-FA343FBB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7F3EA-7E18-40D3-A786-497B458212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