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48556"/>
        <c:axId val="85526759"/>
      </c:barChart>
      <c:catAx>
        <c:axId val="79048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26759"/>
        <c:crosses val="autoZero"/>
        <c:auto val="1"/>
        <c:lblAlgn val="ctr"/>
        <c:lblOffset val="100"/>
        <c:noMultiLvlLbl val="0"/>
      </c:catAx>
      <c:valAx>
        <c:axId val="85526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48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C48-BF3F-4633-9B73-3AE6C07A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57B-90EF-4881-8018-F00C6749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31B-822C-4A3A-AFEE-FD3E98AB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209D-CCD1-45D8-A726-F0B4C8B5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39F-A633-46BD-B613-2444D66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EC3-81AC-48FC-9D90-003FA78B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AB1-0A8D-4634-B209-897D6438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0B3-DF4D-4F73-BD39-E3112F63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325-E546-4A6A-9AF4-57E4BA2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E36-B29E-4FED-91EE-C70BD5D7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0CD-70C8-49BD-8190-01669F09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332-D4CA-4C9D-81A0-D24BC3EC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358B8-2670-4D17-AF21-B871C3EE9E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