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0953"/>
        <c:axId val="89100755"/>
      </c:barChart>
      <c:catAx>
        <c:axId val="5200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0755"/>
        <c:crosses val="autoZero"/>
        <c:auto val="1"/>
        <c:lblAlgn val="ctr"/>
        <c:lblOffset val="100"/>
        <c:noMultiLvlLbl val="0"/>
      </c:catAx>
      <c:valAx>
        <c:axId val="89100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878-B40A-42EE-95B5-2C8C71EC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D20-6BB7-4B52-B6D4-47DA979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0EF-2BC7-4911-BA1F-3456DB70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627-824D-4847-8269-911F0BB1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E10-B0EE-4C6B-8FA6-48176853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897-F6D0-4ECB-8550-19BED56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402-B3F5-4EF1-A1CA-43328FF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F30-A2FC-47FF-94DB-F0C6BC8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7AD-8039-4D56-9729-0776346E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004-B7B6-4C0F-844E-335A17F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994-F873-40EB-AFE7-314270C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D83-70D2-4A99-AA0E-3883E20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28C5F-73A0-48E0-AA14-5F1275A75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