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57538"/>
        <c:axId val="21442610"/>
      </c:barChart>
      <c:catAx>
        <c:axId val="35557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42610"/>
        <c:crosses val="autoZero"/>
        <c:auto val="1"/>
        <c:lblAlgn val="ctr"/>
        <c:lblOffset val="100"/>
        <c:noMultiLvlLbl val="0"/>
      </c:catAx>
      <c:valAx>
        <c:axId val="21442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7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EF1-5090-4D0C-A285-5C868468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F48-113D-40DE-9875-E05AB010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C43-D922-4DF5-8EA3-ED16C59D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582-C0D1-461E-93BD-BB02876B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164-DC54-46F7-B8FB-EE99F9AC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E57-87D0-4E43-BFEC-C6F2EF7B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AAA-7826-4CBA-95D6-16B9098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2EE-D748-47CF-82D5-D96B3700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856-3EDC-4229-BAB2-5068A58F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591-889F-4849-B3FB-D31E673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7C7-F44C-4825-A2BD-018B233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26B-F670-46E2-AC9D-2A72F83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E038C-D6AB-4BB1-83EE-E3D5F663A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