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98927"/>
        <c:axId val="38456769"/>
      </c:barChart>
      <c:catAx>
        <c:axId val="48098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56769"/>
        <c:crosses val="autoZero"/>
        <c:auto val="1"/>
        <c:lblAlgn val="ctr"/>
        <c:lblOffset val="100"/>
        <c:noMultiLvlLbl val="0"/>
      </c:catAx>
      <c:valAx>
        <c:axId val="38456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98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300-5C48-4102-B9B4-6A80A14F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2C3-F5AC-4694-993D-87EA8B03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706-A351-48F6-BDBB-1B2210D0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35C-8392-40A3-A465-5600DD91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F66-54E1-4D43-8148-3891716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E53-813B-42FA-83FD-D9DA474A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A1E-07BA-4B11-A266-2F7D1FD5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85C-CD87-4321-857C-99FF6EA2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B9C-0FF7-4C21-B876-9C294130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C4D-83AE-4591-A45B-92D4741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A05-F1D0-4933-822A-FA64470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009-2C7C-4FF3-BAB5-3D0B3BA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06516-D5C5-49F9-9A0D-41252BA537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