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13568"/>
        <c:axId val="49909446"/>
      </c:barChart>
      <c:catAx>
        <c:axId val="78713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09446"/>
        <c:crosses val="autoZero"/>
        <c:auto val="1"/>
        <c:lblAlgn val="ctr"/>
        <c:lblOffset val="100"/>
        <c:noMultiLvlLbl val="0"/>
      </c:catAx>
      <c:valAx>
        <c:axId val="49909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13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B26-C4E9-43ED-BB26-E6945A34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51F-57C4-48C6-9BDC-4CC15B8D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196-469B-482C-B7A2-E20E6F05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E6A-6D2B-44FF-9A85-9073A40B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961-2E25-4DE2-A832-90959E2A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23C-18C0-4C20-BD53-A97E1CF0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C41-28A3-4768-A016-3F2D2B6F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A76-F8A9-4A56-BCDE-77E2BADB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B1D-F321-40EC-85B6-3717ACCC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C06-EB96-43E3-8C2C-B5B44CEA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6B8E-EDA1-4416-BCFB-F788CEB6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E61-130B-416B-B120-8BFFA2FA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D89EE-274F-4DAA-B1A8-C4D32768D7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