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47697"/>
        <c:axId val="64415361"/>
      </c:barChart>
      <c:catAx>
        <c:axId val="84947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15361"/>
        <c:crosses val="autoZero"/>
        <c:auto val="1"/>
        <c:lblAlgn val="ctr"/>
        <c:lblOffset val="100"/>
        <c:noMultiLvlLbl val="0"/>
      </c:catAx>
      <c:valAx>
        <c:axId val="64415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47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289-9548-4CBF-933D-51267AEC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A73-721B-4BB5-9D1A-AAF9B0A1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D239-168A-4B75-8FB6-0A40D313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03E-F72B-4010-A200-02B9388A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F051-851D-4F68-8F90-6472A2C0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E77D-2B11-4D79-8518-3686AD16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2BF-0CDC-465A-A8FC-8CDBE104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6C1-3457-4D0A-9E9B-FCE17935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E1E-BADB-4133-8061-5853173B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DDA-F2F6-42B6-B040-B73545C1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CAE-6685-497C-9DA3-B3E4B542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DD3-5396-4CA0-8D9F-949BF485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80932-A5A2-4942-9545-81D8AF3B48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