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32979"/>
        <c:axId val="62345824"/>
      </c:barChart>
      <c:catAx>
        <c:axId val="97732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45824"/>
        <c:crosses val="autoZero"/>
        <c:auto val="1"/>
        <c:lblAlgn val="ctr"/>
        <c:lblOffset val="100"/>
        <c:noMultiLvlLbl val="0"/>
      </c:catAx>
      <c:valAx>
        <c:axId val="62345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32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8C7-3AD9-4DA8-B489-419BCC6B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C25-DCF2-408A-8026-88A0F577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E60-2AEF-4E15-8081-FECA27D3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C78-7226-411D-9AA3-7DE0A900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955-E85B-4411-90EC-FD424005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8C7-EEDF-4755-9463-6DA33880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B28-00E4-41B2-A45C-B8DFC060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97B-EEB2-44A0-BA77-64A1B25A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D36-1DEC-4FD5-B474-B44FCFEF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0F4-834C-44F1-82F0-22BD2E84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2B8-FEE4-4FCC-820F-B504C6D4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D82-8C42-4F30-B498-E34080D3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46CE2-3746-45DD-A64E-A521921B18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