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48863"/>
        <c:axId val="13483089"/>
      </c:barChart>
      <c:catAx>
        <c:axId val="91548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83089"/>
        <c:crosses val="autoZero"/>
        <c:auto val="1"/>
        <c:lblAlgn val="ctr"/>
        <c:lblOffset val="100"/>
        <c:noMultiLvlLbl val="0"/>
      </c:catAx>
      <c:valAx>
        <c:axId val="13483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48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56D-D154-4B53-86AA-E473B216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EC3-6B52-4572-8B0E-6011056B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C84-01A2-4537-B7A1-74B5DFA2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CC4-4DFF-4A4D-AA9C-BBC0E826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DC9-7B8D-457F-9038-D1D6B6C0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C79-677B-4ADB-9DC1-A9584C07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87D-758B-46E8-83EE-C2DE7098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386-99C2-4CD6-B9C6-37BD55FB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ABB-60C6-4632-BF85-D4624847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1EC-5E47-4817-846E-5AB29749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81D-5F7F-4D51-84C7-F00A750F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86B-A4AD-4650-BBEA-ECAC2CD0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0533C-5ED6-4339-B9E5-170D31FE93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