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66387"/>
        <c:axId val="42806311"/>
      </c:barChart>
      <c:catAx>
        <c:axId val="73966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06311"/>
        <c:crosses val="autoZero"/>
        <c:auto val="1"/>
        <c:lblAlgn val="ctr"/>
        <c:lblOffset val="100"/>
        <c:noMultiLvlLbl val="0"/>
      </c:catAx>
      <c:valAx>
        <c:axId val="42806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66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DE1-84B5-4DD4-9C07-10873EE9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81B-BDCD-47FB-9A81-2022ADA8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527-8338-4EFA-9516-460DA5E2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2C0-A466-432C-80BC-125B13F6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EE7-E33E-4DA7-AB23-88150C55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365-F5B0-4DD1-858F-3BF0545F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3CB-1593-4F7A-8392-5130F51E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6BD-EE14-4F08-A9EF-78A6445F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FED5-F5F5-4DD9-B31E-BB7646DC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7223-237A-4D99-A3E6-CB2B700A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30DD-1DB2-4895-AC80-4EC09669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DE4-B85D-4501-83F6-64DE4850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118C9-70D8-4B0B-8640-B754E770BE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