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45932"/>
        <c:axId val="59668948"/>
      </c:barChart>
      <c:catAx>
        <c:axId val="688459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68948"/>
        <c:crosses val="autoZero"/>
        <c:auto val="1"/>
        <c:lblAlgn val="ctr"/>
        <c:lblOffset val="100"/>
        <c:noMultiLvlLbl val="0"/>
      </c:catAx>
      <c:valAx>
        <c:axId val="59668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459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D633-0042-4709-87D3-6728C461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CF32-8069-4DCD-A7FF-9A599321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B3D1-724F-401C-857B-39461F421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825-E5CE-4D84-A01B-80B847D3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C5E0-5E92-40CE-9BCF-14FF8A0B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877-F1A9-49F3-948E-92B951E4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403-F72C-48FB-A687-AF049F0B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FC3-7213-47DA-83AC-9CA4564F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928-5204-4037-B5EF-D4CB9BD8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096-04BA-4F55-994F-F90905CC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9C3-BFC3-4440-B6D2-0FB6EEC1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AC0-3202-41E6-9D6C-58CABB99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743C5-8EC6-4AC1-862A-40A2581BC7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