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29724"/>
        <c:axId val="42355916"/>
      </c:barChart>
      <c:catAx>
        <c:axId val="63229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55916"/>
        <c:crosses val="autoZero"/>
        <c:auto val="1"/>
        <c:lblAlgn val="ctr"/>
        <c:lblOffset val="100"/>
        <c:noMultiLvlLbl val="0"/>
      </c:catAx>
      <c:valAx>
        <c:axId val="423559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29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7DD-6A8D-45AD-B063-0058A2C4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01C-E081-43E2-BDBE-48B824E1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CF4-C912-419C-97DF-08057B26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3B9-77C2-47E4-A9A7-7C5B9130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C51-F23B-446F-8E1C-1FE3206A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1BC-F6B3-46FC-B6FF-CA1447EF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8480-10B8-4566-B4B1-4E7AC9C6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806-E986-4574-9D9B-D9EB3A42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336-5D77-46F0-8103-320684DD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311-F9C4-4924-8476-3E17956E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94A-C39F-4ECC-A25E-768DFB2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D63-5C09-479C-A3F3-B2F7C86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39B47-9923-4190-A0DB-2CCF787085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