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02821"/>
        <c:axId val="78231856"/>
      </c:barChart>
      <c:catAx>
        <c:axId val="21502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31856"/>
        <c:crosses val="autoZero"/>
        <c:auto val="1"/>
        <c:lblAlgn val="ctr"/>
        <c:lblOffset val="100"/>
        <c:noMultiLvlLbl val="0"/>
      </c:catAx>
      <c:valAx>
        <c:axId val="78231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02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8F0-19DD-4DC1-86AA-1F9FB84C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DA8-9465-4BAC-AE2D-BB513770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FE7-CBA2-4F87-93CE-4F280E21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6BC-7CD5-4B48-B99A-80DD4CAF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21B-4CE4-43A5-A7D8-505711F4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D0F1-A5FC-4540-80BB-585BCBD3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28B-FA46-4079-9DF8-2E0004DF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5AD-BF2E-4521-AEA5-53E48986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35B-87AC-49EC-80F3-BB16A7C5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850-9319-47AC-9ED7-CA9E38DA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5E1-211E-4FCB-B571-27F2F53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096-C6E5-4CE9-857E-9C0096B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6BA6D-337F-43C1-9696-20DCF29E8F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