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79584"/>
        <c:axId val="56554062"/>
      </c:barChart>
      <c:catAx>
        <c:axId val="78579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54062"/>
        <c:crosses val="autoZero"/>
        <c:auto val="1"/>
        <c:lblAlgn val="ctr"/>
        <c:lblOffset val="100"/>
        <c:noMultiLvlLbl val="0"/>
      </c:catAx>
      <c:valAx>
        <c:axId val="56554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9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58E-7688-4DB8-9E15-0540F458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EA7-F942-42C4-8A74-D0A05053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D38-B10B-40D2-9091-8865B91F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809-9FE6-48DE-9E82-5B656D68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EEC-E42E-41A3-A8D4-F5D94992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38C-D80E-4ABF-B415-D79D2ADF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A82-D2B0-440C-94A8-03822E97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14E-3379-4C58-8F18-EBE02C9B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1C2-6E05-4C4D-8CF7-2D8737B7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A19-64C4-404B-BC12-74573F6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CA8-3E94-4967-8C05-58FDB76F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3AA-E68B-4B65-A7A3-0D3C3D0E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D222C-A03A-4F62-AF65-B60F6340C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