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78895"/>
        <c:axId val="83738463"/>
      </c:barChart>
      <c:catAx>
        <c:axId val="92778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8463"/>
        <c:crosses val="autoZero"/>
        <c:auto val="1"/>
        <c:lblAlgn val="ctr"/>
        <c:lblOffset val="100"/>
        <c:noMultiLvlLbl val="0"/>
      </c:catAx>
      <c:valAx>
        <c:axId val="83738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78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764-0948-4377-BEC2-A97ED8D8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385-852B-44B3-9B03-66AE5EDC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84A-B37A-4638-A25D-2A110D8F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3EE-2ECE-439D-8630-F73BAEEB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6B9-1CDE-4942-A90A-43C49BE2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F14-DE5D-4ABB-9220-CD1F419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851-8C57-4096-BA05-3501C44E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50F-6136-4FA0-A3B8-21A78DFD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BDE-720E-47C6-8525-4F2EF11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8A8-741F-4D2E-87ED-5455C41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92A-BEEF-42F6-B2ED-3A50B8B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0B6-11D3-4841-A0FA-7DEEC7E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021EE-7929-474D-90B2-0BC9BE0AD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