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92316"/>
        <c:axId val="47876890"/>
      </c:barChart>
      <c:catAx>
        <c:axId val="89792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76890"/>
        <c:crosses val="autoZero"/>
        <c:auto val="1"/>
        <c:lblAlgn val="ctr"/>
        <c:lblOffset val="100"/>
        <c:noMultiLvlLbl val="0"/>
      </c:catAx>
      <c:valAx>
        <c:axId val="47876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2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314-4AED-4348-80AE-2EE85503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514-D54A-4F53-8975-FC6DB166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758-A462-411C-9FCB-A83CDC3D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2C7-5DF5-488E-A367-A12738C6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9E2-CE86-4814-BE00-BCD51C1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E34-F3D0-4563-B198-3CE9A7FC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EE0-1D5C-4D2A-B829-58BAEC5B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579-02CF-4A30-BC1F-29838C2E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999-6639-4388-AEE6-70EAFE69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459-A916-4AF9-9E52-2123F04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7C9-FC57-42D1-B9E4-39CFE26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EAC-F9C6-460E-94D1-A11AC52E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97FEC-EAF0-4FAA-B584-9BD7545496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