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63399"/>
        <c:axId val="53145875"/>
      </c:barChart>
      <c:catAx>
        <c:axId val="784633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45875"/>
        <c:crosses val="autoZero"/>
        <c:auto val="1"/>
        <c:lblAlgn val="ctr"/>
        <c:lblOffset val="100"/>
        <c:noMultiLvlLbl val="0"/>
      </c:catAx>
      <c:valAx>
        <c:axId val="531458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633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A15C-D95E-4508-86E4-8C504418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B2FD-429C-4F26-8E4A-A7667D16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5F67-62FD-4185-8BC7-4B087EA6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B4A2-ABCE-4B7E-8327-FFCAE1ED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771E-D533-4F95-9443-4B5B4990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21AA-F83C-4641-B88E-FA7F0956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A570-61EA-4F53-A4EE-760D94C4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229-2639-4DD4-8310-1A52D4E9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E1C9-00D9-4CEA-80F9-4643E6D2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9C1-6940-44C6-B7C5-7F3E9CB3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F551-3E5E-406E-A2E0-9DF251C4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46D-1AD3-41CD-93D0-0C4F54C0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4BDA2-CA5C-4118-9D24-D7A0B67906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