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01506"/>
        <c:axId val="63921265"/>
      </c:barChart>
      <c:catAx>
        <c:axId val="13801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21265"/>
        <c:crosses val="autoZero"/>
        <c:auto val="1"/>
        <c:lblAlgn val="ctr"/>
        <c:lblOffset val="100"/>
        <c:noMultiLvlLbl val="0"/>
      </c:catAx>
      <c:valAx>
        <c:axId val="63921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01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A9E-D626-4C22-8D95-D65E291A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6D6-DD82-4374-83D8-07F80D64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364-9E84-4150-A811-6EDEC814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AB0-6FB9-4849-9101-88F1F451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E6D-6F66-4FAA-86D2-B1FE7547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032-D7F8-462C-A5AE-DB837ED0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C32-E6F6-4F09-ACBA-E0AB3E05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80F-7B7D-4099-AC86-33E0A86D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2DB-0ABF-4FA0-B94B-3EDAAEB1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5F3-38AE-446D-B613-5C7A58C8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4CA-EBA1-4E34-8A2B-D1ABE09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33B-6FDA-4EDE-A784-EBC392DF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14203-13B5-4A19-951E-29EDF4A56F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