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48366"/>
        <c:axId val="25014020"/>
      </c:barChart>
      <c:catAx>
        <c:axId val="38948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14020"/>
        <c:crosses val="autoZero"/>
        <c:auto val="1"/>
        <c:lblAlgn val="ctr"/>
        <c:lblOffset val="100"/>
        <c:noMultiLvlLbl val="0"/>
      </c:catAx>
      <c:valAx>
        <c:axId val="25014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48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FF5-6816-4451-B103-3711278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94A-9F05-41F1-B37B-C1CFFA4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F36-38E9-46D2-A5B7-DFCF8816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460-0118-4829-81DD-AC4D6C42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0DE-1F77-42E5-8CCB-118050C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C25-6E54-4823-B908-21ED4C8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4DE-DAFA-4FDC-A219-A7EE8F8A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C75-0E0D-492B-9F3B-BFED785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35F-73A3-4D0D-87C5-AAF4F14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A0D-4B42-465B-A26E-E4F5047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7A0-69C0-4B48-9F4C-B3509EB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44D-2080-4C69-87BC-CB440A26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DA871-5437-4CC7-862F-0444682DD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