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18529"/>
        <c:axId val="91846492"/>
      </c:barChart>
      <c:catAx>
        <c:axId val="25218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46492"/>
        <c:crosses val="autoZero"/>
        <c:auto val="1"/>
        <c:lblAlgn val="ctr"/>
        <c:lblOffset val="100"/>
        <c:noMultiLvlLbl val="0"/>
      </c:catAx>
      <c:valAx>
        <c:axId val="91846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18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C01-7BF4-44C7-AEAF-A2861330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C9B-379C-4D01-A89B-B0BE9936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7B4-D7F3-422D-A375-BB8C8B87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8F7-230D-4376-8AFC-C3942B65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EA9-69CC-499D-B82A-0FD80E4D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F14-362E-4F73-8984-DD0E01D6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86E-A89D-4762-90EE-5E702A80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569-075E-44CE-8903-22B61231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10F-5395-4F79-B129-75002226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930-35B1-4701-B5B9-ED1A2B0D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970-D26C-4FEE-BA71-6232394E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256-6864-482C-9C13-F324AB2B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862FF-5229-4010-9E7E-FC854E0F18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