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58574"/>
        <c:axId val="89200967"/>
      </c:barChart>
      <c:catAx>
        <c:axId val="35558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0967"/>
        <c:crosses val="autoZero"/>
        <c:auto val="1"/>
        <c:lblAlgn val="ctr"/>
        <c:lblOffset val="100"/>
        <c:noMultiLvlLbl val="0"/>
      </c:catAx>
      <c:valAx>
        <c:axId val="89200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8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379-FA5B-4444-BC68-6C514F2C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B1E-B5E2-4BA2-8992-ED21CA24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2A0-AAA1-4D68-AB9E-45D8DC2A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E20-C8DF-461A-B999-CA985332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83D-9E39-4EBB-A7F5-F2158F4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687-412F-4F76-BBA5-A72EACC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271-1BC7-45CF-9203-3F6B3D6F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AA7-DFFE-46F1-94A8-B992E0B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B40-674F-4B0A-8C3C-F610209E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B0D-40B1-498E-8096-D966606B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641-0407-4919-B429-28979AF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94C-1CE8-423C-8CAB-03BD018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22D4A-815B-428B-B07A-380540EA48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