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46288"/>
        <c:axId val="49158133"/>
      </c:barChart>
      <c:catAx>
        <c:axId val="19246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8133"/>
        <c:crosses val="autoZero"/>
        <c:auto val="1"/>
        <c:lblAlgn val="ctr"/>
        <c:lblOffset val="100"/>
        <c:noMultiLvlLbl val="0"/>
      </c:catAx>
      <c:valAx>
        <c:axId val="49158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46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F89-A6A6-4EA9-AD95-C5160029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7A0-11A4-4AC9-A30F-0470CEB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8C8-6C27-4503-A7AE-762DAEE0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92E-E8D2-4206-829D-17705478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F0B-719B-49E7-88B6-8D319BC9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AB0-7C9F-480B-9EB7-082F811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F2A-750A-4912-8090-6E7532B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195-36C6-44F0-9492-D5A10C7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932-0554-48F2-89F7-36CCD8A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221-3F96-4055-A24E-BCCD00A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0C-C6FB-4537-BC88-9E8DEEF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5B4-EF7B-4338-A63D-4A0257A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2AB09-79BD-4872-A5C8-364764647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