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627796"/>
        <c:axId val="51368084"/>
      </c:barChart>
      <c:catAx>
        <c:axId val="92627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68084"/>
        <c:crosses val="autoZero"/>
        <c:auto val="1"/>
        <c:lblAlgn val="ctr"/>
        <c:lblOffset val="100"/>
        <c:noMultiLvlLbl val="0"/>
      </c:catAx>
      <c:valAx>
        <c:axId val="513680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27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8FE-DDCE-476D-9349-34E1F7DE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D00B-D56F-499E-8CEF-8CA581BF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C4F0-DFAF-46AB-8452-8E4B3CB1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DC2-53E2-4623-8298-A656DDF0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0C0A-3264-4264-8D1B-81A32A58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9DA-523B-4BE4-9F85-1B388B2E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E013-4012-47AF-942D-0336F04A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D3C9-A338-49B9-89F5-62A0925F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4BA-47B7-4B07-98F6-E5B0B23C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F13-CA68-42FC-9DD4-574F4000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24F-1DCD-4ECB-9E27-7A8075B0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495A-99B8-4F61-957C-8199D410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C1E3F-B76D-4BE8-9B02-0946E23EEB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