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83409"/>
        <c:axId val="713223"/>
      </c:barChart>
      <c:catAx>
        <c:axId val="56483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223"/>
        <c:crosses val="autoZero"/>
        <c:auto val="1"/>
        <c:lblAlgn val="ctr"/>
        <c:lblOffset val="100"/>
        <c:noMultiLvlLbl val="0"/>
      </c:catAx>
      <c:valAx>
        <c:axId val="713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83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BA1-36E6-4DD6-AB77-0CAB76B4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286-287C-470D-B428-9FBAF34D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331-E35C-4650-8364-F21371B4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892-BF2E-4CA2-80BE-60EE1FD9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6BF-D2E7-4F72-94C0-67E5E4C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E8F-0CDA-46C9-B933-7829BF6A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52F-3D1C-4D4F-AE33-12FDA076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D3A-1CD0-474C-98D3-AAA1DB61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656-4825-429E-8E9C-D928ED67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D62-00C7-49A5-AF3A-1A73ED8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30E-54BD-42D9-BC63-31F888A7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FEA-5255-4D47-9735-23FB51A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F0D9D-17FC-4E97-B098-39EAB775CB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