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28825"/>
        <c:axId val="72212258"/>
      </c:barChart>
      <c:catAx>
        <c:axId val="98028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12258"/>
        <c:crosses val="autoZero"/>
        <c:auto val="1"/>
        <c:lblAlgn val="ctr"/>
        <c:lblOffset val="100"/>
        <c:noMultiLvlLbl val="0"/>
      </c:catAx>
      <c:valAx>
        <c:axId val="72212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28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52D-D2A9-4091-AC08-F9CB9DBC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A3F-44FD-4541-9E20-772E00B2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F633-0185-486B-BDDF-029E46AA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64A1-2E33-4187-A2AD-4FB74DD1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401-C2F3-4FDF-AA2C-5614845D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B90A-60F2-4C0F-81C0-E7A35ABB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8143-A192-46B8-AC5D-E539A407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01D8-75C4-4383-BC07-E6129BEE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882-108A-47DB-9964-49973092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B297-042B-4CEE-AD97-F1AFA90A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7512-EB04-4236-B25A-8E0B2453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6FAA-4B18-454D-952A-0FEBC9DB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5C34A-DC77-408A-A97D-57C664CE1A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