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34272"/>
        <c:axId val="57759066"/>
      </c:barChart>
      <c:catAx>
        <c:axId val="37434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9066"/>
        <c:crosses val="autoZero"/>
        <c:auto val="1"/>
        <c:lblAlgn val="ctr"/>
        <c:lblOffset val="100"/>
        <c:noMultiLvlLbl val="0"/>
      </c:catAx>
      <c:valAx>
        <c:axId val="57759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4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4AC-AFA9-4E47-BB90-9E8FB16C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41D-99D4-4DEC-8C9E-CA4F87A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DB1-F638-4E98-A5E3-4ADEF69D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066-1532-45E9-9F5F-56EEA83D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752-B170-41CF-B872-91478C8A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7DF-1C76-4CA8-961F-3B9371C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B30-219C-4A1E-8F38-D925DA1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8FD-4556-4C55-A746-F37E6A5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63F-431C-4ABE-9EE9-63BA815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870-C0C6-4B28-99F5-62375F56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30B-5721-4CB5-A059-8ED2029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57F-9D31-44D4-A558-F00F6F1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E357-BF65-471C-9615-1E839690F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